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A09-5751-4E19-AA36-7301F8CB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E0E-7849-45B7-9C61-3DE74F3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1958B-9D6D-4895-BF45-CE32B44A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281C7-DD4E-4C93-B338-F67543F4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C97E1-3A1D-4A3E-A476-62BF6B88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57E9B-597E-4B9D-9A63-283E95C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97715-6F75-477E-B403-AA53256D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EA6F2-3912-4BE8-A3F1-032EC3AE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3F9E3-EA8C-4155-B686-02DCACE9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87C79-0EF3-4224-82E2-7B26D4B0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6468C-C00C-41F2-A320-FD3A1BEE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5D4E2-4EC3-4B3F-AC84-4DFA44AC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C89-2051-4BE6-A36E-EF35F10D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5C67F-E563-4A59-AE69-CD2B46F2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57007-C33B-44DB-8A8C-83E0BAE4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52E37-AEFE-4CB0-B2D0-1EFDAD8E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BF32B-8428-4081-92C6-0F61ADC5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89DC5-3642-4B30-8D86-DFEA45A5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2AA5C-C874-4411-83BD-F4798BDC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DBD78-3E14-40CE-841E-9B69CB7A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76464-D259-49F8-9EC3-03BD5CC4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242C5-B95B-4ADA-9819-F6FD277A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3C69B-70B0-40EA-A6BA-39FEA486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0F7-8828-4341-9E77-213DC2E6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F5C3F-B5E9-45E7-A641-5DC606D8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1ED3E-CDFF-406C-8326-8D4AB98D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2F291-1D85-496D-8582-878A91D2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9E885-24F1-4F8B-A8B1-EF289F6F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B175B-BDF2-47CB-9D0F-6D256AE7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5EECC-43AD-4F36-A7BC-BA1C381D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A086E-987E-4D9B-9580-28403623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3ACA0-58B6-4AB8-9C4E-5E9DF5EA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6A57F-08A4-4820-B195-7F52DB21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3C616-45DD-473C-9BB5-CE88BCD7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71F0-762B-4BE3-AE91-72BAFD30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1113B-99C4-456C-8A7C-A73FEE4B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11F98-E2E3-4285-9939-42E5FDE1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1C16B-F747-4FB3-862A-08A0F9E0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CE223-F002-4EB9-A01D-A4008488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133F2-0DE4-4979-B7D2-6F90DB88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12E1E-B84F-4AA4-9535-78F8DD08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44BD1-EB24-4EAC-8DAA-2CA89888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6AF2F-1D5F-4110-AAB6-70C3D1FC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D7905-FE65-4591-B43F-92991CC2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BE2AB-72A9-485C-BAB4-7ABEABF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25A4-CB0F-4F4A-B0E5-727F08AE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7DD88-5253-420B-A4BE-346441FA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C0477-4660-4659-8B1C-CC506CB4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1B518-7452-4582-9168-6165C85B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E7383-BC4E-438A-9FBE-74A5D921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7EF20-4AE5-4E34-86B2-A5C955F7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3CC2-36DF-43A9-9A82-86BC009E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450C-0128-4622-BFB6-D4A82342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9B07-A879-4D8E-8393-1E501EA5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0CB1-EEAA-4EC7-8F3C-206900DC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2892-9DBC-45B1-AF1C-E7AC34D1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D2A-6271-4F5E-8E15-370CBAD8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4D0F-BAF5-46D2-B23B-023B5A91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9212-43B3-4277-B3C1-6E8A330E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EB01-EF96-4A65-9F74-DF8EC367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CA23-857F-40BB-8358-933746F0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CF26-EE25-4E86-9837-1A719740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D042-5345-45E7-ABA2-262E9114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41A2-7DFF-48E2-BF47-3BA85DAD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FAED-41BD-4DF3-95E4-1BC50CEB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854E4-AFD2-4700-B068-6BBBB377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EA71-8849-4366-A27F-6DF3A1AC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E34-CB4F-4247-A3C2-2DA67A64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3F8E-0D91-4122-9CCD-88358DAC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46A7-5669-4F24-9BFF-6E93E074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E55A-D34F-4BD1-83DC-C2424977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E014-E78B-436E-A419-B5838A9D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1584-D74A-428F-A6E1-8305533B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B79F-0605-4605-AAC1-B57FD5CB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EFE0-445C-449E-A6A3-9A673AD1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007BE-3032-4F55-8679-ED4F9B48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ED3EA-E724-4AFF-9F57-F3B66368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DC452-FDCA-4219-8317-66473658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58D-869C-4735-87B2-52E95409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9F9CE-8123-4352-B45B-46493E70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BB5D-9C95-42D7-A843-6605BB9E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A2E54-179D-42AE-945C-FD13773E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FB1E6-F484-43B5-BE5C-B1FDA08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55992-D40F-46ED-8F28-DC24A741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78520-F279-4864-A983-43770BF9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6B0BF-1C77-4E00-9F86-8CB59F92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BB93B-E12B-4542-BBBF-B4A6CFC4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B76FC-50CE-4F4D-BD3A-E5B47228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CA91-F0A6-4ACA-8398-CECF4307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567-3AED-466F-9768-3C36BF02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C1FFE-E290-40AA-BCDD-2DAC9E23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43B4F-649A-45A1-B3F6-BAF3B38B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EB668-C407-4A37-880B-15D3F59B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5E3E7-C5F4-4C92-A0B8-6A2628A3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110BF-F15E-4646-A814-7AB6C562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8CD81-98BB-428C-AEE9-9C9521F3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C52DF-FADF-4EBA-8D17-F36D9179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A713-896B-4C7B-853C-318AB8E1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DD329-BD38-4F0A-A872-90126168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6ADF0-5BEB-48ED-9FA3-F5042DDA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EEF-A829-491D-97F7-6554C710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4E3FC-D33A-491E-8C0D-F2C0EE4D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D3ADB-7104-4AEA-BEA1-3439D753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54E04-BD7B-44D7-BDBB-F37FFBE6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CCBD9-73C0-4E5D-ADA5-FAD80676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7A5B1-ADE4-4972-AF89-E2DB66D9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6DB48-CCA9-406C-A7E9-21187ABD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70869-E3CD-4B6B-920C-2EDC08C9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6D2A3-281C-4010-999F-E1EDE8CE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DBDED-D521-4DAC-9815-143D095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9077B-07F8-4FDA-AC05-78BEE8EA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37B-F33C-42EC-B5CE-6E5ADD7D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AFBF-E4D6-4AC5-A4F0-AC934A92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963C-CD76-4D2D-92BD-3BF75815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A1676-65ED-4C87-86B0-F45A4279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676BE-E39E-4F79-A6F9-80F995FF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F0E4A-4E00-4C00-B229-E6AA4481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77D52-9076-4D22-A4F4-62CB4E65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D403-DCAA-406C-934B-431FD123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E3D13-8FEE-49F1-B2CE-D3B6504E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0B6FD-89C4-4492-BD2E-687794A4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EE0E5-A041-43EB-B903-99AFD323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ED8-1C88-4E35-9334-BC559F61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9BB3E-50DC-4495-AE93-24DE38EA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C34FF-60F1-4FBD-A40E-BB3BAA8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79CDF-5AAF-45F6-B275-3BAB975C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A5E68-6ADA-406D-A11F-7794CCE9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C0681-1163-4085-B3D3-40868AE5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88AE9-2690-4F6D-99BF-100EDAC8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57FFD-D6F8-4FD0-B83C-18259400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EB76B-E77D-4249-81CD-CB90C32F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766B3-E55A-4880-8334-0BFCCF49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7EE4C-AB97-4FB4-995F-3D44AA2B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78C-6DBE-4E65-875B-F6C1C71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13263-1FE0-4C08-B906-8497836D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2676A-B5B2-4739-8A31-6D81D858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0BAA6-8693-4E1F-9B5C-4BF68E84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67BF2-F9CC-4382-A132-606D1ADF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3EB91-6617-4AFF-AF88-42AC176E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045F5-365A-469E-BFF3-D0B564B3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52A4-30FC-4A06-8713-ACFE4676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84DF1-AF18-49EA-8682-05121A70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4B90C-B277-41B8-BB5B-CD0BD242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A3AD7-C409-480E-9CF8-77CFE67A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4D47-499D-4F74-96FF-67F5D54FF9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3569-A7AE-48AE-98E8-876D4BF18F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841E-681D-4DBF-98CA-3DFAED4C79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83D4-66F0-41A4-93D8-007FAD5EB4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9506-802D-4F83-818D-D714A1A983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FED1-D413-464C-8B77-E8863BBBDF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44B0-0988-4F69-AEFD-8D57E4D391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B789-333C-4CF3-B3C5-C66FCEE4D5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A60C-A5DD-4DD2-A319-675FAF44FF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6160-B172-47B1-B3E4-0D44E83971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9A1D-9EFC-4F71-8077-D84770AEBB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D0BB-D549-4D44-8ECF-224633A477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66 Milovať chcem ť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vať chcem ť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 svä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ebe vzdá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, česť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dlitby moje k tebe let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klamom hriec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daj zvie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vať chcem ťa, svetla sv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milosti kým smie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vať chcem ť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 več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tvoje slovo počuje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u mne sa skláňa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nekoneč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čo ti vrúcne ďakuj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vať chcem ťa, vďačný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milosti kým smie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vať chcem ťa, Láska č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án, ty svätý Boží Sy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milosť tvoja raj mi chyst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myla zo mňa hanbu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vať chcem ťa, veleb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milosti kým smiem ž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3T15:58:30Z</dcterms:modified>
  <cp:revision>22</cp:revision>
  <dc:subject/>
  <dc:title>Je veľký náš Pán, on slávy je Kráľ Nech do všetkých strán  spev vrúcnych znie chvál.</dc:title>
</cp:coreProperties>
</file>